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AF55-EC94-4327-90D1-B3EA8F8D5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6D26-54DD-42CB-BE66-247FB39BD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4F90-942F-4575-AC34-B6FE0F488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FA96-3497-4DC5-8D3A-4E152C74C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7FD1-B964-481A-B755-3592A8810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A4E8-45F4-426C-995D-F99FF2F8A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D8B8-AE61-4489-92C2-D7C09C6BE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3767-E8F2-426E-BF1F-7C82B4BFE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A881-2CAA-4778-945D-F692809C3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3A88-C021-4278-B83A-7968838BD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D043-9D4D-4479-BFC3-48C0E5553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94B3-6F97-4260-811A-D3779F32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4A8FA-CB0F-4F38-A14C-73633CD25F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_____Clase 8IM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9 de mayo del 20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Propósito # 60: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ómo repasamos para el examen del Capitulo 4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plete each sent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ara el desayuno como ___________ y 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ara el almuerzo como ___________ y 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ara la cena como __________ y 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uando tengo sed bebo 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 postre como 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engo mucha 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- Give the word being defin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Lo que tienes que pagar cuando comes en un café o restaurante 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Una lista de comidas en un café o restaurante 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Dos meriendas 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La persona que trabaja en un restaurante o cafe 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I- Complete with the appropriate w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si, señores. ¿Qué __________ ustedes tom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-Yo tengo ________. Una cola, por fav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-Para mi, una hamburguesa, por favor. Tengo 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2. En el café Rosa ve una mesa _________. En la mesa hay un menú. Rosa _________ el menú y luego ________ el men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1048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II- Answer each 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Escuchas la radi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Dónde viv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Beben mucha gaseos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Recibes muchos correos electrónic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Aprendes mucho en la escuel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Ven la televisió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Lees el menú en españo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53416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V- Complete with the correct verb 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Yo __________ y ___________ mucho en la clase de historia.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(leer, escribi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tedes _________ en Estados Unidos y __________ a una escuela secundaria.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(vivir, asisti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los __________ francés y sus amigos ____________ español.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(aprend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Él __________ un sándwich y _________ leche.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(comer, beb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ú _________ legumbres y nosotros __________ frutas.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(vend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9T13:10:34Z</dcterms:created>
  <dc:creator>Helen Zumaeta</dc:creator>
  <dc:description/>
  <dc:language>en-US</dc:language>
  <cp:lastModifiedBy>Helen Zumaeta</cp:lastModifiedBy>
  <dcterms:modified xsi:type="dcterms:W3CDTF">2011-05-09T19:28:09Z</dcterms:modified>
  <cp:revision>10</cp:revision>
  <dc:subject/>
  <dc:title>Me llamo ____________Clase 8IM La fecha es el 9 de mayo del 2011</dc:title>
</cp:coreProperties>
</file>